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1CB-CF75-47AE-A004-437C67E0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7F-7C96-48CC-A839-D021ABD6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77F-2A85-4F1C-AC1E-E3D5081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996-7F5E-4500-9A90-7A6E2A82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368-5338-4484-BB50-59067E7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7BF-F255-4CF3-A668-C9458BD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DBE-B0BC-4A64-BD3A-7AD5DE43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6A4-DC33-4B39-8BC9-F916A8C1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2F2-DC9F-4D96-8372-0EBA5C08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45D-A3A1-4F7D-8EAE-F89C415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DC3-A033-4CF2-9EA1-2789655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1F0-65CE-40D5-BF3A-5FFFCFF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A212-B644-42F5-A31B-F5BC7B5057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0720" y="590400"/>
            <a:ext cx="8515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uidado com os anim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426200" cy="521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i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nimais para sobreviverem dependem do cuidado do hom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s animais são nossos amig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bora pareçam muito rudes eles podem nos auxiliar em muitas coi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1600" y="1965240"/>
            <a:ext cx="4425840" cy="45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utilidade dos anima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vaca por exemplo aproveitamos tudo: o leite, a carne, os ossos, o chifre,o pelo, etc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51600" y="2511360"/>
            <a:ext cx="4425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r isso pen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2884320"/>
            <a:ext cx="4425840" cy="2759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idar bem dos animais vai fazer bem para você e para 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2:39:01Z</dcterms:created>
  <dc:creator/>
  <dc:description/>
  <dc:language>en-US</dc:language>
  <cp:lastModifiedBy/>
  <dcterms:modified xsi:type="dcterms:W3CDTF">2010-11-30T23:07:50Z</dcterms:modified>
  <cp:revision>2</cp:revision>
  <dc:subject/>
  <dc:title/>
</cp:coreProperties>
</file>